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30" name=""/>
          <p:cNvSpPr/>
          <p:nvPr/>
        </p:nvSpPr>
        <p:spPr>
          <a:xfrm>
            <a:off x="1355760" y="4384800"/>
            <a:ext cx="44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AD33-C87F-4CE0-9C51-24CBFC3FE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143B-3F1D-45EA-9AE6-966064E28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1EED-EF79-415D-97E6-EBEF51BDD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EFD1-8F41-473C-A8DA-61DD716087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B917F-C459-4CFA-B7FB-912A493B71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CB5F-3825-4D66-8BC2-23D4D938C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E30C-05AB-40A7-B8CF-660B1D750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367C-9929-4B20-92FA-56A064EC4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DB23-3E70-4ADE-9D59-69214D5E2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F9D3B-F0EA-469C-8A32-B9C03DAAA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8E41-45AE-4E23-8AFB-1A22CFAD5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CCF2-A15E-4FF8-BE75-CE20A9592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6095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c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9c"/>
                </a:solidFill>
                <a:latin typeface="Times New Roman"/>
              </a:rPr>
              <a:t>Database Systems: Design, Implementation, &amp; Management, 5</a:t>
            </a:r>
            <a:r>
              <a:rPr b="0" lang="en-US" sz="1200" spc="-1" strike="noStrike" baseline="30000">
                <a:solidFill>
                  <a:srgbClr val="00009c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9c"/>
                </a:solidFill>
                <a:latin typeface="Times New Roman"/>
              </a:rPr>
              <a:t> Edition, Rob &amp; Coro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2CCA-7D81-43F6-9565-4C4EBE72A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0794600">
            <a:off x="7541640" y="-1440"/>
            <a:ext cx="1600200" cy="6858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38880" y="6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981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Chapter 1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s and Datab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 Systems: Design, Implementation, and Management, Fifth Edition, Rob and Coro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Simple File System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991120" cy="3524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6720" y="5029200"/>
            <a:ext cx="1327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ABA84-21F0-40DA-BAC5-A64E78828E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File System Critique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520" y="24382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System Data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quires extensive programming in third-generation language (3G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e consum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kes ad hoc queries impossi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ads to islands of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D4CC-7F60-4E79-8A55-E2EB76CBAF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File System Critique (con’t.)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epend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nge  in file’s data characteristics requires modification of data access progra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st tell program what to do and 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kes file systems cumbersome from programming and data management view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Depend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nge in file structure requires modification of related progra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3BC6B-23C6-4BA4-92E3-36A057AE91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File System Critique (con’t.)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ld Definitions and Naming Con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record definition anticipates reporting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ion of proper field names importa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ention to length of field nam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of unique record identifi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E4D7-1324-4803-9DED-A15CDFDD43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File System Critique (con’t.)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Redunda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ferent and conflicting versions of same dat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ults of uncontrolled data redundan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anomal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inconsis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k of data integ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AA04-3B33-4418-A685-50A5614B12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Database Systems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base consists of logically related data stored in a single reposi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advantages over file system management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iminates inconsistency, data anomalies, data dependency, and structural dependency probl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ores data structures, relationships, and access pat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4CAC-CB18-4095-8009-87A1A19B46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14920" cy="423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Database vs. File Systems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1828800"/>
            <a:ext cx="152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B7FB6-5502-4267-B1BD-789B762CE8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c"/>
                </a:solidFill>
                <a:latin typeface="Arial"/>
              </a:rPr>
              <a:t>Database </a:t>
            </a: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System</a:t>
            </a:r>
            <a:r>
              <a:rPr b="1" lang="en-US" sz="2800" spc="-1" strike="noStrike">
                <a:solidFill>
                  <a:srgbClr val="00009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Environment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34080" cy="3552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74720" y="5029200"/>
            <a:ext cx="1327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FD45-082D-42DC-A114-214281B49A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Database System Types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-user vs. Multiuser Datab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grou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ized vs. 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ion or transaction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cision support or data wareho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DAD4-2FD4-4AD5-A12C-4C1B98974A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DBMS Functions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670572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ictionary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orage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transformation and 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user access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 and recovery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ntegrity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base language and application            programming interfaces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base communication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ACBD4-1B28-4DC1-AFAA-1A3789E1AA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In this chapter, you will learn: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 database is, what it does, and why database design is impor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odern databases evolved from files and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flaws in file system data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 DBMS is, what it does, and how it fits into the database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types of database systems and database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CFC7-6969-406D-8D8F-35C106A718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Database Models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on of logical constructs used to represent data structure and relationships within the datab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eptual models: logical nature of data repres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ation models: emphasis on how the data are represented in the databa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BCCF-79BB-47D9-AB4D-7BAC7E5416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932520" y="6324480"/>
            <a:ext cx="183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9984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s in Conceptual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e-to-one (1:1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e-to-many (1: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y-to-many (M: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Database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erarchica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ona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Database Models (con’t.)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B0639-0A32-43DD-B40F-2F3E7B7E820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Hierarchical Database Model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68672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ally represented by an upside down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parent can have many child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child has only one par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95296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70760" y="3035160"/>
            <a:ext cx="1327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F2021-0D2E-40C6-B078-61FAF51FBA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Hierarchical Database Model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57280" y="1752120"/>
            <a:ext cx="768672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eptual simplic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base security and integr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 independe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lex imple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ficult to manage and lack of standar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cks structural independe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ications programming and use complex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ation limit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F76B-89D1-4795-9C04-10F88F0409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Network Database Model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68672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ecord can have multiple par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sed of se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set has owner record and member reco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mber may have several own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867280" cy="319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19920" y="5791320"/>
            <a:ext cx="1465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FD15-46C3-44B4-A859-1A99032878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Network Database Model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09680" y="1980720"/>
            <a:ext cx="601992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eptual simplic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ndles more relationship typ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 access flexibi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motes database integr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 independe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formance to standar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 complex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ck of structural independe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447D-09C6-41D8-9CA0-EEA4BEE9FD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Relational Database Model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2514240"/>
            <a:ext cx="768672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ived by user as a collection of tables for data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s are a series of row/column inters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s related by sharing common entity characteristic(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6F56-8944-4B0F-9BB7-4E05EDA71F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4522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Relational Database Model (con’t.)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5840" y="3429000"/>
            <a:ext cx="125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964B-6FBE-457B-A848-89F05AFF81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Relational Database Model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57280" y="2236320"/>
            <a:ext cx="768672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uctural independe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roved conceptual simplic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sier database design, implementation, management, and use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 hoc query capability with SQ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werful database management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C8591-0524-4C79-8252-0BA8FED1F9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Relational Database Model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68672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bstantial hardware and system software overhea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or design and implementation is made eas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y promote “islands of information” probl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0547-6047-4434-B28C-6A1B10A29C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Introducing the Database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versus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 constitute building blocks of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tion produced by processing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tion reveals meaning of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od, timely, relevant information key to decision mak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od decision making key to organizational surviv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FD59-9707-4807-A619-F44E493548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6629400" cy="2271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Entity Relationship Database Model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86720" cy="46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ments the relational data model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ed in an entity relationship diagram (ER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entities, attributes, and relationsh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5486400"/>
            <a:ext cx="152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1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5CF2-3343-4204-BB65-E4EB5E2549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Entity Relationship Database Model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57280" y="1980720"/>
            <a:ext cx="768672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ceptional conceptual simplic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ual repres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ive communication too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ed with the relational database mod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mited constraint repres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mited relationship repres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data manipulation langua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ss of information cont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F9A6-20F5-4D5B-9965-3079D582F1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Object-Oriented Database Model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 or abstractions of real-world entities are stor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ributes describe propert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lection of similar objects is a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s represent real world actions of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es are organized in a class hierarc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heritance is ability of object to inherit attributes and methods of classes above 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19AF-2A82-43D4-9477-59B2C0C781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OO Data Model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68672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s semantic cont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ual presentation includes semantic cont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base integr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th structural and data independe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ck of OOD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lex navigational data acc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ep learning cur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 system overhead slows transa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A4B4-2A0A-4908-B50B-E3C86E1BA4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Database Models and the Internet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68672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“Internet age”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, efficient, and secure Internet acc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sily used, developed, and suppor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rts complex data types and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amless interfaces with multiple data sources and struc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plicity of conceptual database mode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y database design, implementation, and application development too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werful DBMS GUI make DBA job easi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F4101-53A9-444D-B587-2570182476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Database Management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base is shared, integrated computer structure hous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d user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base Management System (DB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ages Database 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s access to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ains query langua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114EF-A938-44AB-88EC-37CC4B0CEE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Importance of DBMS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s data management more efficient and eff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language allows quick answers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better access to more and better-manage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es integrated view of organization’s opera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s the probability of inconsistent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FB56E-DDE5-4396-AD67-DC0FEBDD43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296040" cy="3549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DBMS Manages Interaction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502920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44950-F442-4ADD-8A03-13EAAFC25C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ce of Good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or design results in unwanted data redundan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or design generates errors leading to bad decis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al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cus on principles and concepts of database desig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ortance of logical desig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F700-945F-4D3B-AA8F-7B8FB840C1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Historical Roots of Database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applications focused on clerical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s for information quickly follow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systems developed to address ne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 organized according to expected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 Processing (DP) specialists computerized manual file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E15B-ECB4-49B4-B007-AB79951790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c"/>
                </a:solidFill>
                <a:latin typeface="Arial"/>
              </a:rPr>
              <a:t>File Terminology</a:t>
            </a:r>
            <a:endParaRPr b="1" lang="en-US" sz="3200" spc="-1" strike="noStrike">
              <a:solidFill>
                <a:srgbClr val="00009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2236320"/>
            <a:ext cx="768672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w Fa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oup of characters with specific me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ically connected fields that describe a person, place, or th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lection of related recor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C26C-A1EF-4E9E-962E-435550D2D9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23T20:07:32Z</dcterms:created>
  <dc:creator>Roger McHaney</dc:creator>
  <dc:description/>
  <dc:language>en-US</dc:language>
  <cp:lastModifiedBy>zahid</cp:lastModifiedBy>
  <cp:lastPrinted>1998-01-07T00:50:10Z</cp:lastPrinted>
  <dcterms:modified xsi:type="dcterms:W3CDTF">2003-03-24T09:30:56Z</dcterms:modified>
  <cp:revision>61</cp:revision>
  <dc:subject>Chapter 1</dc:subject>
  <dc:title>Database Systems: Design, Implementation, and Management</dc:title>
</cp:coreProperties>
</file>